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5.jpeg" ContentType="image/jpeg"/>
  <Override PartName="/ppt/media/image21.png" ContentType="image/pn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3A4E-9293-4CDD-87D8-5DA1BE8515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B1E8-53AA-4CAB-B8BC-ABED16428B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623-A248-46AB-BFFF-5C53627B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22C-0C49-4D4C-824F-B94A9409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F20-4A5A-4AF0-9434-5A35A978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872-DE5E-4DC4-A258-C694DF96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4E1-B6C9-47F4-9F32-33BA9863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438-A172-489A-9E38-65E5E566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250-5935-4948-83A3-C0ED93C3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665-276F-42B0-9E4F-CB563E5D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88F-2481-4EFD-9287-38CC921E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A64-F825-4F95-9F76-652E9AD1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3D4-D963-42F2-B276-14C578C1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3B5C-163E-4208-BCB7-5BE98A53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8245-67B9-4CC6-843C-01B690BB7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63720" y="-674640"/>
            <a:ext cx="77770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Unit 1 </a:t>
            </a:r>
            <a:endParaRPr b="1" lang="en-US" sz="4800" spc="1" strike="noStrike">
              <a:ln w="9360">
                <a:solidFill>
                  <a:srgbClr val="0099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here did you go on vacation?</a:t>
            </a:r>
            <a:endParaRPr b="1" lang="en-US" sz="4800" spc="1" strike="noStrike">
              <a:ln w="9360">
                <a:solidFill>
                  <a:srgbClr val="0099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5752800" y="4653000"/>
            <a:ext cx="3089880" cy="1556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 Wei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 1&amp; Class 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ly 2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2018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060640" y="1952640"/>
            <a:ext cx="6192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79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Section B 1 </a:t>
            </a:r>
            <a:endParaRPr b="1" lang="en-US" sz="4800" spc="1" strike="noStrike">
              <a:ln w="12600">
                <a:solidFill>
                  <a:srgbClr val="b2b2b2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a-2e</a:t>
            </a:r>
            <a:endParaRPr b="1" lang="en-US" sz="4800" spc="1" strike="noStrike">
              <a:ln w="12600">
                <a:solidFill>
                  <a:srgbClr val="b2b2b2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65b1d614611399359451"/>
          <p:cNvPicPr/>
          <p:nvPr/>
        </p:nvPicPr>
        <p:blipFill>
          <a:blip r:embed="rId2"/>
          <a:stretch/>
        </p:blipFill>
        <p:spPr>
          <a:xfrm>
            <a:off x="179280" y="1413000"/>
            <a:ext cx="5832720" cy="39416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6"/>
          <p:cNvSpPr txBox="1"/>
          <p:nvPr/>
        </p:nvSpPr>
        <p:spPr>
          <a:xfrm>
            <a:off x="3059280" y="404640"/>
            <a:ext cx="338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arming up</a:t>
            </a:r>
            <a:endParaRPr b="1" lang="en-US" sz="3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258920" y="57340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laysia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马来西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300720" y="342900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laysian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马来西亚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2" descr="10811110_820634"/>
          <p:cNvPicPr/>
          <p:nvPr/>
        </p:nvPicPr>
        <p:blipFill>
          <a:blip r:embed="rId3"/>
          <a:stretch/>
        </p:blipFill>
        <p:spPr>
          <a:xfrm>
            <a:off x="6084720" y="1628640"/>
            <a:ext cx="2735280" cy="1605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139086020"/>
          <p:cNvPicPr/>
          <p:nvPr/>
        </p:nvPicPr>
        <p:blipFill>
          <a:blip r:embed="rId4"/>
          <a:srcRect l="0" t="0" r="0" b="11434"/>
          <a:stretch/>
        </p:blipFill>
        <p:spPr>
          <a:xfrm>
            <a:off x="6227640" y="4724280"/>
            <a:ext cx="2519640" cy="1871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1_Kek_Lok_Si-__Bukit_Bendera_View__"/>
          <p:cNvPicPr/>
          <p:nvPr/>
        </p:nvPicPr>
        <p:blipFill>
          <a:blip r:embed="rId2"/>
          <a:srcRect l="0" t="0" r="2758" b="0"/>
          <a:stretch/>
        </p:blipFill>
        <p:spPr>
          <a:xfrm rot="21182400">
            <a:off x="468360" y="476280"/>
            <a:ext cx="3552840" cy="2409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95280" y="3213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nang Hill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槟城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356000" y="2852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eld Quay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海墘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826920" y="494172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orgetown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乔治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de50d834-df2c-4799-9374-b715beb78b5b"/>
          <p:cNvPicPr/>
          <p:nvPr/>
        </p:nvPicPr>
        <p:blipFill>
          <a:blip r:embed="rId3"/>
          <a:stretch/>
        </p:blipFill>
        <p:spPr>
          <a:xfrm rot="552000">
            <a:off x="4788000" y="404640"/>
            <a:ext cx="3313080" cy="2205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13031800278339141392"/>
          <p:cNvPicPr/>
          <p:nvPr/>
        </p:nvPicPr>
        <p:blipFill>
          <a:blip r:embed="rId4"/>
          <a:stretch/>
        </p:blipFill>
        <p:spPr>
          <a:xfrm rot="21358800">
            <a:off x="3348000" y="3860640"/>
            <a:ext cx="4176720" cy="2714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324000" y="493560"/>
            <a:ext cx="792000" cy="77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187280" y="352440"/>
            <a:ext cx="77058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mplete the conversation about Jane’s trip to Penang using the information in the diary entri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20720" y="2408400"/>
            <a:ext cx="80992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Ann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Hi, Jane. Where did you go o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cation last week?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Ja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 I ______ to Penang in _________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Ann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 Who _______ you go with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Ja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  I went with my _________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Ann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 What did you do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372360" y="38671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alaysi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340000" y="38671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64000" y="45165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508720" y="51642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0" y="404640"/>
            <a:ext cx="91440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Ja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The weather was hot and _______ o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nday, so we went ____________ o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each. Then in the afternoon, we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 bicycles to Georgetown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Ann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Sounds great!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Ja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Well, but the next day was not as goo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y ________ and I went to Penang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ll, but the weather _____ really bad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rainy. We ________ a long time for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tr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158920" y="407664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th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5508720" y="4724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211640" y="5300640"/>
            <a:ext cx="21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it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300720" y="476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unn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435640" y="1052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glid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547640" y="22827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o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539640" y="485640"/>
            <a:ext cx="802800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9200" indent="-1249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we were _____ and cold because we forgot to bring an __________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49200" indent="-1249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Ann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Oh, no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49200" indent="-1249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Ja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And that’s not all! We also didn’t bring __________ money, so we only had one bowl of rice and some fish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468680" y="620640"/>
            <a:ext cx="13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979640" y="2060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mbrell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3219480" y="422100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oug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2"/>
          <p:cNvSpPr/>
          <p:nvPr/>
        </p:nvSpPr>
        <p:spPr>
          <a:xfrm>
            <a:off x="250920" y="1630440"/>
            <a:ext cx="792000" cy="776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1266840"/>
            <a:ext cx="7705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magine Jane went to Penang Hill again and had a great day. Fill in the blanks in her diary entry with the correct forms of the verbs in bracket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466560" y="730080"/>
            <a:ext cx="8353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阅读指导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读短文可知，本文是一篇日记。记述了七月十八日他们一次旅游的经过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因此，本文在时态上应用一般过去时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应注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括号中动词过去式的形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是规则变化的还是不规则变化的。然后做写出正确的形式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611280" y="620640"/>
            <a:ext cx="7920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ursday, July 18t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day ____ (be) a beautiful day. My father and I _____ (go) to Penang Hill again, but this time we _______ (walk) to the top. We _______ (start) at 9:30 a.m. and _____ (see) lots of special Malaysian flowers along the way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097080" y="221292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014560" y="14922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5148360" y="29322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lk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492360" y="36464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art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484360" y="43718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a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19120" y="113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out one hour later, we ________ (stop) and ______ (drink) some tea. Then we _______ (walk) for another two hours before we ____ (get) to the top. I _____ (be) quite tired, but the city _______ (look) wonderful from the top of the hil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580000" y="12682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opp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1403280" y="1989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ran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539640" y="2708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lk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627280" y="3429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o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7020000" y="343548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012000" y="414972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ok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1908000" y="692280"/>
            <a:ext cx="48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Language points</a:t>
            </a:r>
            <a:endParaRPr b="1" lang="en-US" sz="4000" spc="1" strike="noStrike">
              <a:ln w="9360">
                <a:solidFill>
                  <a:srgbClr val="99cc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24000" y="1700280"/>
            <a:ext cx="84247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I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eel lik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was a bir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eel like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从句   意为“觉得好像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el lik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’m walking through the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感觉好像是倘佯在历史的长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1484280"/>
          <a:ext cx="8496000" cy="4944960"/>
        </p:xfrm>
        <a:graphic>
          <a:graphicData uri="http://schemas.openxmlformats.org/drawingml/2006/table">
            <a:tbl>
              <a:tblPr/>
              <a:tblGrid>
                <a:gridCol w="2087280"/>
                <a:gridCol w="2592360"/>
                <a:gridCol w="3816360"/>
              </a:tblGrid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人称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rselves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人称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89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称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selves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" name="WordArt 4"/>
          <p:cNvSpPr txBox="1"/>
          <p:nvPr/>
        </p:nvSpPr>
        <p:spPr>
          <a:xfrm>
            <a:off x="826920" y="260280"/>
            <a:ext cx="23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Review</a:t>
            </a:r>
            <a:endParaRPr b="1" i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844720" y="27050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rsel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986200" y="17002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ysel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724360" y="2708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rselv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844720" y="37130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imsel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059280" y="573264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sel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916360" y="4724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rsel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995640" y="404640"/>
            <a:ext cx="2521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反身代词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324000" y="620640"/>
            <a:ext cx="828036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拓展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]feel like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其他用法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①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el like +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名词或代词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意为“觉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好像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It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 so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感觉天好像很快就要下雨了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②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el like +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动名词 意为“想做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I don’t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 toda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今天我不太想去散步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2487240" y="2637000"/>
            <a:ext cx="27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eels like r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3447360" y="4587840"/>
            <a:ext cx="33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eel like walk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5"/>
          <p:cNvSpPr/>
          <p:nvPr/>
        </p:nvSpPr>
        <p:spPr>
          <a:xfrm>
            <a:off x="395280" y="333360"/>
            <a:ext cx="835344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And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cause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bad weather, we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n’t see anything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lo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cause of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意为“因为”，后跟名词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idn’t go fishing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cause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d wea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因为天气不好所以他们没有去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鱼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辨析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]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caus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与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cause of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区别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cause +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句子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意为“因为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5"/>
          <p:cNvSpPr/>
          <p:nvPr/>
        </p:nvSpPr>
        <p:spPr>
          <a:xfrm>
            <a:off x="684360" y="1200240"/>
            <a:ext cx="75978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他因为生病而没有上学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08200" indent="-808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didn’t go to school _________________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08200" indent="-808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didn’t go to school __________________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621080" y="2565360"/>
            <a:ext cx="43077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cau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e was ill.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9440" y="4005360"/>
            <a:ext cx="52099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cause of his illness.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684360" y="1278000"/>
            <a:ext cx="7704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low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意为“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下面，到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下面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Please do not write 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lo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this line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不要写到这条线下面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[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辨析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] below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与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under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区别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low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指某物处于较低的地方，但不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正下方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;  unde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指处于某物的正下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在月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are _______ the mo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名男孩子站在树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y stood ______ the tree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917800" y="36511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lo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068720" y="50846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un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5"/>
          <p:cNvSpPr/>
          <p:nvPr/>
        </p:nvSpPr>
        <p:spPr>
          <a:xfrm>
            <a:off x="503280" y="741240"/>
            <a:ext cx="8101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My father didn’t bring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oug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one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ough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作形容词，意为“充足的，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够的，充分的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have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oug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o get there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im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有足够的时间按时到达那里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[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注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ough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作副词时，意为“足够地，充足地”。它修饰形容词时应置于该形容词后面来修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The house isn’t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___________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个房子对我们来说不够大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428720" y="3867120"/>
            <a:ext cx="23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ig enoug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611280" y="836640"/>
            <a:ext cx="7632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…so w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ecid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 go to the beach near our hot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cide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决定；选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ecide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get married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决定结婚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324000" y="620640"/>
            <a:ext cx="828036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My sister and I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ri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aragliding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y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v.&amp;n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尝试；设法；努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This idea seems good but you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ry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out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个想法似乎不错，但是需要试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验一下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fter a few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ri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y decided to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ive up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试了几次后，他们决定放弃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395280" y="333360"/>
            <a:ext cx="828036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I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ond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hat life was like here in the pas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onder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想知道；琢磨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I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ond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ho she i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在想她到底是谁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W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ait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ver an hour for the train because there were too many peop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it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等待；等候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She rang the bell and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ait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按铃后就等候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42920" y="1773360"/>
          <a:ext cx="8893080" cy="3240000"/>
        </p:xfrm>
        <a:graphic>
          <a:graphicData uri="http://schemas.openxmlformats.org/drawingml/2006/table">
            <a:tbl>
              <a:tblPr/>
              <a:tblGrid>
                <a:gridCol w="652320"/>
                <a:gridCol w="2121120"/>
                <a:gridCol w="1743120"/>
                <a:gridCol w="2381040"/>
                <a:gridCol w="1995480"/>
              </a:tblGrid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one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ne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" name="Text Box 4"/>
          <p:cNvSpPr/>
          <p:nvPr/>
        </p:nvSpPr>
        <p:spPr>
          <a:xfrm>
            <a:off x="2987640" y="2924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y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828720" y="2924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me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093080" y="421812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th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84360" y="4221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meth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843280" y="421812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yth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716360" y="42181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eryth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843280" y="836640"/>
            <a:ext cx="3600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复合不定代词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2987640" y="47628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53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Exercise</a:t>
            </a:r>
            <a:endParaRPr b="1" lang="en-US" sz="4000" spc="1" strike="noStrike">
              <a:ln w="9360">
                <a:solidFill>
                  <a:srgbClr val="99cc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79280" y="1197000"/>
            <a:ext cx="87487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选词填空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I feel like ______ (going/go) to Hong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ng for vacation next summer vacation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He’s not going to buy that car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 (because /because of) it’s too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pensive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he train was late _________ (because/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cause of) the heavy frog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7640" y="3978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caus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664000" y="1962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o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284720" y="5300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cause of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395280" y="1703520"/>
            <a:ext cx="817236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Her coat reaches _____ (below/ under)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 knee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The boy is _________ (enough old/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ld enough) to get dressed himself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4248000" y="18478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lo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951280" y="3294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ld enoug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>
            <a:off x="2771640" y="26028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Homework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44360" y="1341360"/>
            <a:ext cx="8999640" cy="60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用所给动词的适当形式填空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. My mother ____ (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buy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 a new schoolbag for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e yesterday.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2. When ___ you ___ (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start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 to learn English?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3. My aunt ____ (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tak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 us to dinner at a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restaurant but the food __ (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is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 not good at all. 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4. When I _____ (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am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 in America, I _____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(make) a lot of new friends. 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5. They ____ (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hav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 a great sale last weekend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3276720" y="3284640"/>
            <a:ext cx="21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ird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50920" y="299736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aragliding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滑翔伞运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796000" y="2997360"/>
            <a:ext cx="302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icycle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自行车；脚踏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50920" y="5661000"/>
            <a:ext cx="271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uilding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建筑物；房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132000" y="59641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rader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商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012000" y="5661000"/>
            <a:ext cx="283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umbrella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伞；雨伞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6" descr="5_120911171330_1"/>
          <p:cNvPicPr/>
          <p:nvPr/>
        </p:nvPicPr>
        <p:blipFill>
          <a:blip r:embed="rId2"/>
          <a:stretch/>
        </p:blipFill>
        <p:spPr>
          <a:xfrm>
            <a:off x="3130560" y="1197000"/>
            <a:ext cx="2324160" cy="180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11-115688801"/>
          <p:cNvPicPr/>
          <p:nvPr/>
        </p:nvPicPr>
        <p:blipFill>
          <a:blip r:embed="rId3"/>
          <a:stretch/>
        </p:blipFill>
        <p:spPr>
          <a:xfrm>
            <a:off x="6156360" y="1197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04381806"/>
          <p:cNvPicPr/>
          <p:nvPr/>
        </p:nvPicPr>
        <p:blipFill>
          <a:blip r:embed="rId4"/>
          <a:stretch/>
        </p:blipFill>
        <p:spPr>
          <a:xfrm>
            <a:off x="324000" y="4221000"/>
            <a:ext cx="2447640" cy="1376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~3IZ3SN3_F3SZ}9@NR`X4XT"/>
          <p:cNvPicPr/>
          <p:nvPr/>
        </p:nvPicPr>
        <p:blipFill>
          <a:blip r:embed="rId5"/>
          <a:stretch/>
        </p:blipFill>
        <p:spPr>
          <a:xfrm>
            <a:off x="6012000" y="4076640"/>
            <a:ext cx="2160360" cy="1579680"/>
          </a:xfrm>
          <a:prstGeom prst="rect">
            <a:avLst/>
          </a:prstGeom>
          <a:ln w="0">
            <a:noFill/>
          </a:ln>
        </p:spPr>
      </p:pic>
      <p:sp>
        <p:nvSpPr>
          <p:cNvPr id="78" name="WordArt 26"/>
          <p:cNvSpPr txBox="1"/>
          <p:nvPr/>
        </p:nvSpPr>
        <p:spPr>
          <a:xfrm>
            <a:off x="2484360" y="260280"/>
            <a:ext cx="388800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New words</a:t>
            </a:r>
            <a:endParaRPr b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Picture 27" descr=""/>
          <p:cNvPicPr/>
          <p:nvPr/>
        </p:nvPicPr>
        <p:blipFill>
          <a:blip r:embed="rId6"/>
          <a:stretch/>
        </p:blipFill>
        <p:spPr>
          <a:xfrm>
            <a:off x="395280" y="1270080"/>
            <a:ext cx="2195640" cy="1582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8" descr=""/>
          <p:cNvPicPr/>
          <p:nvPr/>
        </p:nvPicPr>
        <p:blipFill>
          <a:blip r:embed="rId7"/>
          <a:srcRect l="0" t="0" r="0" b="4405"/>
          <a:stretch/>
        </p:blipFill>
        <p:spPr>
          <a:xfrm>
            <a:off x="3203640" y="4221000"/>
            <a:ext cx="2305080" cy="14925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250920" y="3141720"/>
            <a:ext cx="28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t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dj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湿的；潮湿的；下雨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132000" y="321300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ungry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dj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饥饿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227640" y="32846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ill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小山；山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736720" cy="180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2663640" cy="1775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6084720" y="1125360"/>
            <a:ext cx="2664000" cy="18320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396720" y="3068640"/>
            <a:ext cx="27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elicious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dj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美味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348080" y="3132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4348080" y="3132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4348080" y="3132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3348000" y="308124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xpensive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dj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昂贵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6229440" y="31399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xciting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dj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令人兴奋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735840" y="6018120"/>
            <a:ext cx="2990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oring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dj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无聊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8" descr="001111a9f7bb0a08af0306"/>
          <p:cNvPicPr/>
          <p:nvPr/>
        </p:nvPicPr>
        <p:blipFill>
          <a:blip r:embed="rId2"/>
          <a:stretch/>
        </p:blipFill>
        <p:spPr>
          <a:xfrm>
            <a:off x="6445080" y="981000"/>
            <a:ext cx="1925640" cy="216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0" descr="goldjewelery_18230"/>
          <p:cNvPicPr/>
          <p:nvPr/>
        </p:nvPicPr>
        <p:blipFill>
          <a:blip r:embed="rId3"/>
          <a:stretch/>
        </p:blipFill>
        <p:spPr>
          <a:xfrm>
            <a:off x="3637080" y="1052640"/>
            <a:ext cx="1949400" cy="201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1" descr=""/>
          <p:cNvPicPr/>
          <p:nvPr/>
        </p:nvPicPr>
        <p:blipFill>
          <a:blip r:embed="rId4"/>
          <a:stretch/>
        </p:blipFill>
        <p:spPr>
          <a:xfrm>
            <a:off x="684360" y="4363920"/>
            <a:ext cx="2808000" cy="1563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4" descr="7808263_113929797000_2"/>
          <p:cNvPicPr/>
          <p:nvPr/>
        </p:nvPicPr>
        <p:blipFill>
          <a:blip r:embed="rId5"/>
          <a:srcRect l="0" t="0" r="0" b="5912"/>
          <a:stretch/>
        </p:blipFill>
        <p:spPr>
          <a:xfrm>
            <a:off x="324000" y="1268280"/>
            <a:ext cx="2881080" cy="18018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6"/>
          <p:cNvSpPr txBox="1"/>
          <p:nvPr/>
        </p:nvSpPr>
        <p:spPr>
          <a:xfrm>
            <a:off x="2700360" y="189000"/>
            <a:ext cx="338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resentation</a:t>
            </a:r>
            <a:endParaRPr b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Text Box 37"/>
          <p:cNvSpPr/>
          <p:nvPr/>
        </p:nvSpPr>
        <p:spPr>
          <a:xfrm>
            <a:off x="4068720" y="6093000"/>
            <a:ext cx="367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errible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dj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糟糕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0" descr="IW[{DL@6~%`TWM5`LCUI[`5"/>
          <p:cNvPicPr/>
          <p:nvPr/>
        </p:nvPicPr>
        <p:blipFill>
          <a:blip r:embed="rId6"/>
          <a:stretch/>
        </p:blipFill>
        <p:spPr>
          <a:xfrm>
            <a:off x="4716360" y="4148280"/>
            <a:ext cx="1812960" cy="1873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250920" y="404640"/>
            <a:ext cx="208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Matching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77840" y="2290680"/>
            <a:ext cx="8712000" cy="1520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__ delicious   3. __ exciting  5. __ terrib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__ expensive  4. __ cheap    6. __ boring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矩形 17"/>
          <p:cNvSpPr/>
          <p:nvPr/>
        </p:nvSpPr>
        <p:spPr>
          <a:xfrm>
            <a:off x="752400" y="2565360"/>
            <a:ext cx="505080" cy="43200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2" descr="CIMG5452"/>
          <p:cNvPicPr/>
          <p:nvPr/>
        </p:nvPicPr>
        <p:blipFill>
          <a:blip r:embed="rId2"/>
          <a:stretch/>
        </p:blipFill>
        <p:spPr>
          <a:xfrm>
            <a:off x="250920" y="4149720"/>
            <a:ext cx="8675640" cy="2146320"/>
          </a:xfrm>
          <a:prstGeom prst="rect">
            <a:avLst/>
          </a:prstGeom>
          <a:ln w="0">
            <a:noFill/>
          </a:ln>
        </p:spPr>
      </p:pic>
      <p:sp>
        <p:nvSpPr>
          <p:cNvPr id="105" name="矩形 17"/>
          <p:cNvSpPr/>
          <p:nvPr/>
        </p:nvSpPr>
        <p:spPr>
          <a:xfrm>
            <a:off x="6443640" y="3284640"/>
            <a:ext cx="504720" cy="43164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矩形 17"/>
          <p:cNvSpPr/>
          <p:nvPr/>
        </p:nvSpPr>
        <p:spPr>
          <a:xfrm>
            <a:off x="681120" y="3284640"/>
            <a:ext cx="504720" cy="43164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矩形 17"/>
          <p:cNvSpPr/>
          <p:nvPr/>
        </p:nvSpPr>
        <p:spPr>
          <a:xfrm>
            <a:off x="6585120" y="2565360"/>
            <a:ext cx="504720" cy="43200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矩形 17"/>
          <p:cNvSpPr/>
          <p:nvPr/>
        </p:nvSpPr>
        <p:spPr>
          <a:xfrm>
            <a:off x="3776760" y="2565360"/>
            <a:ext cx="504720" cy="43200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矩形 17"/>
          <p:cNvSpPr/>
          <p:nvPr/>
        </p:nvSpPr>
        <p:spPr>
          <a:xfrm>
            <a:off x="3849840" y="3284640"/>
            <a:ext cx="504720" cy="43164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2"/>
          <p:cNvSpPr/>
          <p:nvPr/>
        </p:nvSpPr>
        <p:spPr>
          <a:xfrm>
            <a:off x="2411280" y="476280"/>
            <a:ext cx="898560" cy="84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348000" y="404640"/>
            <a:ext cx="56516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tch the words with the pictures below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826920" y="2637000"/>
            <a:ext cx="2881440" cy="2726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cc00ff"/>
                </a:solidFill>
                <a:latin typeface="Wingdings"/>
                <a:ea typeface="Wingdings"/>
              </a:rPr>
              <a:t></a:t>
            </a:r>
            <a:r>
              <a:rPr b="1" lang="en-US" sz="36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d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icious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003640" y="2565360"/>
            <a:ext cx="3097440" cy="2726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cc00ff"/>
                </a:solidFill>
                <a:latin typeface="Wingdings"/>
                <a:ea typeface="Wingdings"/>
              </a:rPr>
              <a:t>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d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rrib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2"/>
          <p:cNvSpPr/>
          <p:nvPr/>
        </p:nvSpPr>
        <p:spPr>
          <a:xfrm>
            <a:off x="611280" y="692280"/>
            <a:ext cx="863640" cy="801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692360" y="404640"/>
            <a:ext cx="691344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Look at the words in 1a again. Write </a:t>
            </a:r>
            <a:r>
              <a:rPr b="1" lang="en-US" sz="34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words on the left.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Write </a:t>
            </a:r>
            <a:r>
              <a:rPr b="1" lang="en-US" sz="34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words on the right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58920" y="407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ci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333440" y="468648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ea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580000" y="4005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or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364000" y="465300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pensi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1403280" y="620640"/>
            <a:ext cx="6983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isten again. Fill in the blank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349280" y="1773360"/>
            <a:ext cx="610236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Times New Roman"/>
              </a:rPr>
              <a:t>What did Lisa say about…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 vacation 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un park 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eople     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tores      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ood        ________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2"/>
          <p:cNvSpPr/>
          <p:nvPr/>
        </p:nvSpPr>
        <p:spPr>
          <a:xfrm>
            <a:off x="466560" y="549360"/>
            <a:ext cx="792360" cy="77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067280" y="2637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re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1" descr="喇叭"/>
          <p:cNvPicPr/>
          <p:nvPr/>
        </p:nvPicPr>
        <p:blipFill>
          <a:blip r:embed="rId2"/>
          <a:stretch/>
        </p:blipFill>
        <p:spPr>
          <a:xfrm>
            <a:off x="7451640" y="1773360"/>
            <a:ext cx="793800" cy="793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3924360" y="3357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cit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924360" y="4076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riendl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852720" y="55166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liciou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851280" y="4797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pensiv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02:35:29Z</dcterms:created>
  <dc:creator/>
  <dc:description/>
  <dc:language>en-US</dc:language>
  <cp:lastModifiedBy>SDWM</cp:lastModifiedBy>
  <dcterms:modified xsi:type="dcterms:W3CDTF">2018-07-28T01:18:25Z</dcterms:modified>
  <cp:revision>274</cp:revision>
  <dc:subject/>
  <dc:title>幻灯片 1</dc:title>
</cp:coreProperties>
</file>